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8FF5-B320-4C61-B9AB-A2C502B9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7640-5A48-49D4-AF7E-D5087586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E500-CE16-4F7D-B20C-CC312799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5D46-20F8-4A79-9B42-7C85938C2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390B-1E05-4016-93E9-62F1CB85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streaming of educational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00 hours of educational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episodes of Reading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educational serie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D image is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E31-E096-497E-B030-9616DC39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812-C01D-4869-9FB5-DDD39B74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95C-3398-4374-8E5A-E32F50AE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BDC-8803-4D01-A9A3-86F62091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7035-8913-4A18-ADC5-7A0E2B62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22B3-7130-4509-A840-A59038F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B4F0-769C-46CB-A5B2-6FBF11C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E97D-930C-47B5-A86E-C8B4DC93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73B7-0FD4-453E-A06F-E30F1111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6798-273C-405C-ADA2-3FA2F9CF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89D4-E1C8-445C-BA4A-AA4E5A4F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A9C-F2D9-4F53-AF5A-62573D63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C3A9-3461-4652-B0EE-FD092370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7173-2C23-4B3F-AE98-35311DC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64D3-A2C4-45B9-B7EA-5B96EB0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FED3-554A-4218-B803-AAA9EC72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3474-5456-4791-817F-60A59F00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CAD2-C144-4C27-8949-376C392C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920A-8DF6-4BD2-B763-11D5B63B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E745-A889-4E01-AE1A-003EAD26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DA82-198B-4CA2-8BBD-1E40FAD9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9FB4-806E-49DE-BC67-34774F80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615-2660-497C-8F7F-32318481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82BE-26D4-49E6-B4E0-FCD1D36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086C-4676-476B-AA0C-7508C4BE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8DB7-D4DC-44E1-B031-009DE00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C545-9713-4F3A-93CF-CE05CBC8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6449B-B102-4493-BA85-47A285A9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116D-3263-41DE-A9F9-BEEEE079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FDCE4-55B5-4C2C-A117-6C6FBB3B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A09-FE0F-47E6-8000-987B5267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FE1-DE5E-4786-AAC6-71F80C85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82D-6558-478A-8131-183BC568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68C-4A4C-4C45-B1E9-39D933B4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753-61C0-4CD3-98C1-A49D655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BE8-B4AA-4452-A330-BC8C1FF6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6BD4-5F24-4A1D-83AA-EB755B0E8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865-8BAE-497B-A001-1A5A2F894F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B63F-1097-40DA-952D-7C7E2939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ket.org/education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-792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Exploring the Depths! Diving into The Water Cycle With KE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6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7" name="Picture 9" descr="C:\Documents and Settings\larry.moore.KET\Local Settings\Temporary Internet Files\Content.IE5\TQ7TJME1\MC900024568[1].wmf"/>
          <p:cNvPicPr/>
          <p:nvPr/>
        </p:nvPicPr>
        <p:blipFill>
          <a:blip r:embed="rId5"/>
          <a:stretch/>
        </p:blipFill>
        <p:spPr>
          <a:xfrm rot="19235400">
            <a:off x="4485960" y="864720"/>
            <a:ext cx="3738600" cy="274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6"/>
          <a:stretch/>
        </p:blipFill>
        <p:spPr>
          <a:xfrm>
            <a:off x="2438280" y="4194000"/>
            <a:ext cx="1122480" cy="98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7"/>
          <a:stretch/>
        </p:blipFill>
        <p:spPr>
          <a:xfrm>
            <a:off x="1371600" y="4267080"/>
            <a:ext cx="7621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14480" y="91440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resenters today ar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ry Moore- KET Education Consultant North Centra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moore@ket.org -Office: 502-875-9002, Cell: 502-330-35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en Morrison- KET Education Consultant North East Reg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morrison@ket.org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222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gency FB"/>
              </a:rPr>
              <a:t>Exploring the Depths! Diving Into KET’s Water Resources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2" name="Picture 8" descr="C:\Documents and Settings\larry.moore.KET\Local Settings\Temporary Internet Files\Content.IE5\SZCA89FD\MC900390686[1].wmf"/>
          <p:cNvPicPr/>
          <p:nvPr/>
        </p:nvPicPr>
        <p:blipFill>
          <a:blip r:embed="rId1"/>
          <a:stretch/>
        </p:blipFill>
        <p:spPr>
          <a:xfrm>
            <a:off x="0" y="3962520"/>
            <a:ext cx="3200400" cy="2697120"/>
          </a:xfrm>
          <a:prstGeom prst="rect">
            <a:avLst/>
          </a:prstGeom>
          <a:ln w="0">
            <a:noFill/>
          </a:ln>
        </p:spPr>
      </p:pic>
      <p:sp>
        <p:nvSpPr>
          <p:cNvPr id="143" name="Oval 9"/>
          <p:cNvSpPr/>
          <p:nvPr/>
        </p:nvSpPr>
        <p:spPr>
          <a:xfrm>
            <a:off x="3124080" y="502920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276720" y="46483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3048120" y="5181480"/>
            <a:ext cx="7596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3581280" y="4114800"/>
            <a:ext cx="228600" cy="228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295280" y="44956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1371600" y="42670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1371600" y="40384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371600" y="38098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205704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oday’s trai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learn about water cycle related resources in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KET EncycloMedia’s three media clearingho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y Education Stream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KET Teacher’s Doma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KET Ed on Demand</a:t>
            </a:r>
            <a:br>
              <a:rPr sz="2400"/>
            </a:br>
            <a:br>
              <a:rPr sz="1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2. the iTunes University’s Ky. Collection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3. the Raindrops to Rivers webs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76320" y="222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Exploring the Depths! KET’s Water Cycle Resource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5" name="Picture 2" descr="C:\Documents and Settings\larry.moore.KET\Local Settings\Temporary Internet Files\Content.IE5\TQ7TJME1\MC900320968[1].wmf"/>
          <p:cNvPicPr/>
          <p:nvPr/>
        </p:nvPicPr>
        <p:blipFill>
          <a:blip r:embed="rId1"/>
          <a:stretch/>
        </p:blipFill>
        <p:spPr>
          <a:xfrm>
            <a:off x="112680" y="1066680"/>
            <a:ext cx="1824120" cy="96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larry.moore.KET\Local Settings\Temporary Internet Files\Content.IE5\TQ7TJME1\MC900318678[1].wmf"/>
          <p:cNvPicPr/>
          <p:nvPr/>
        </p:nvPicPr>
        <p:blipFill>
          <a:blip r:embed="rId2"/>
          <a:stretch/>
        </p:blipFill>
        <p:spPr>
          <a:xfrm>
            <a:off x="7543800" y="5029200"/>
            <a:ext cx="139392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ww.ket.org/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664240"/>
          </a:xfrm>
          <a:prstGeom prst="rect">
            <a:avLst/>
          </a:prstGeom>
          <a:ln w="0">
            <a:noFill/>
          </a:ln>
        </p:spPr>
      </p:pic>
      <p:sp>
        <p:nvSpPr>
          <p:cNvPr id="159" name="Action Button: Custom 3">
            <a:hlinkClick r:id="rId2"/>
          </p:cNvPr>
          <p:cNvSpPr/>
          <p:nvPr/>
        </p:nvSpPr>
        <p:spPr>
          <a:xfrm>
            <a:off x="380880" y="0"/>
            <a:ext cx="8382240" cy="1143000"/>
          </a:xfrm>
          <a:custGeom>
            <a:avLst/>
            <a:gdLst>
              <a:gd name="textAreaLeft" fmla="*/ 73800 w 8382240"/>
              <a:gd name="textAreaRight" fmla="*/ 8308440 w 8382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58361" h="21600">
                <a:moveTo>
                  <a:pt x="0" y="0"/>
                </a:moveTo>
                <a:lnTo>
                  <a:pt x="158361" y="0"/>
                </a:lnTo>
                <a:lnTo>
                  <a:pt x="158361" y="21600"/>
                </a:lnTo>
                <a:lnTo>
                  <a:pt x="0" y="21600"/>
                </a:lnTo>
                <a:close/>
              </a:path>
              <a:path fill="lightenLess" w="158361" h="21600">
                <a:moveTo>
                  <a:pt x="0" y="0"/>
                </a:moveTo>
                <a:lnTo>
                  <a:pt x="158361" y="0"/>
                </a:lnTo>
                <a:lnTo>
                  <a:pt x="156962" y="1400"/>
                </a:lnTo>
                <a:lnTo>
                  <a:pt x="1400" y="1400"/>
                </a:lnTo>
                <a:close/>
              </a:path>
              <a:path fill="darken" w="158361" h="21600">
                <a:moveTo>
                  <a:pt x="158361" y="0"/>
                </a:moveTo>
                <a:lnTo>
                  <a:pt x="158361" y="21600"/>
                </a:lnTo>
                <a:lnTo>
                  <a:pt x="156962" y="20200"/>
                </a:lnTo>
                <a:lnTo>
                  <a:pt x="156962" y="1400"/>
                </a:lnTo>
                <a:close/>
              </a:path>
              <a:path fill="darkenLess" w="158361" h="21600">
                <a:moveTo>
                  <a:pt x="158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62" y="20200"/>
                </a:lnTo>
                <a:close/>
              </a:path>
              <a:path fill="lighten" w="158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Action Button: Custom 6"/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Action Button: Custom 7"/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90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indrops to Riv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8915400" cy="546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me Water Cycle Related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yard Saf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oKids Expl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et H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Field Trip to Water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vers of North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KET_ED_OnDemand"/>
          <p:cNvPicPr/>
          <p:nvPr/>
        </p:nvPicPr>
        <p:blipFill>
          <a:blip r:embed="rId1"/>
          <a:stretch/>
        </p:blipFill>
        <p:spPr>
          <a:xfrm>
            <a:off x="685800" y="922320"/>
            <a:ext cx="29685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link.png"/>
          <p:cNvPicPr/>
          <p:nvPr/>
        </p:nvPicPr>
        <p:blipFill>
          <a:blip r:embed="rId2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533520" y="1522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KET Ed On Demand 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6818400" y="2743200"/>
            <a:ext cx="161748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783480" y="3886200"/>
            <a:ext cx="1652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6786720" y="5029200"/>
            <a:ext cx="1595160" cy="89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Teachers’ Dom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me Water Related Resour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nneling for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oom progr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4K S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SA Intera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day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 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04920" y="61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ket.org/encyclomedia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Action Button: Custom 8"/>
          <p:cNvSpPr/>
          <p:nvPr/>
        </p:nvSpPr>
        <p:spPr>
          <a:xfrm>
            <a:off x="228600" y="6095880"/>
            <a:ext cx="4267080" cy="533520"/>
          </a:xfrm>
          <a:custGeom>
            <a:avLst/>
            <a:gdLst>
              <a:gd name="textAreaLeft" fmla="*/ 34560 w 4267080"/>
              <a:gd name="textAreaRight" fmla="*/ 4232520 w 4267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72654" h="21600">
                <a:moveTo>
                  <a:pt x="0" y="0"/>
                </a:moveTo>
                <a:lnTo>
                  <a:pt x="172654" y="0"/>
                </a:lnTo>
                <a:lnTo>
                  <a:pt x="172654" y="21600"/>
                </a:lnTo>
                <a:lnTo>
                  <a:pt x="0" y="21600"/>
                </a:lnTo>
                <a:close/>
              </a:path>
              <a:path fill="lightenLess" w="172654" h="21600">
                <a:moveTo>
                  <a:pt x="0" y="0"/>
                </a:moveTo>
                <a:lnTo>
                  <a:pt x="172654" y="0"/>
                </a:lnTo>
                <a:lnTo>
                  <a:pt x="171254" y="1400"/>
                </a:lnTo>
                <a:lnTo>
                  <a:pt x="1400" y="1400"/>
                </a:lnTo>
                <a:close/>
              </a:path>
              <a:path fill="darken" w="172654" h="21600">
                <a:moveTo>
                  <a:pt x="172654" y="0"/>
                </a:moveTo>
                <a:lnTo>
                  <a:pt x="172654" y="21600"/>
                </a:lnTo>
                <a:lnTo>
                  <a:pt x="171254" y="20200"/>
                </a:lnTo>
                <a:lnTo>
                  <a:pt x="171254" y="1400"/>
                </a:lnTo>
                <a:close/>
              </a:path>
              <a:path fill="darkenLess" w="172654" h="21600">
                <a:moveTo>
                  <a:pt x="172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254" y="20200"/>
                </a:lnTo>
                <a:close/>
              </a:path>
              <a:path fill="lighten" w="172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9" name="Picture 7" descr="tunneling"/>
          <p:cNvPicPr/>
          <p:nvPr/>
        </p:nvPicPr>
        <p:blipFill>
          <a:blip r:embed="rId1"/>
          <a:stretch/>
        </p:blipFill>
        <p:spPr>
          <a:xfrm>
            <a:off x="5410080" y="1676520"/>
            <a:ext cx="271800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31" descr="Screen shot 2011-05-01 at 5"/>
          <p:cNvPicPr/>
          <p:nvPr/>
        </p:nvPicPr>
        <p:blipFill>
          <a:blip r:embed="rId2"/>
          <a:srcRect l="0" t="0" r="50006" b="1272"/>
          <a:stretch/>
        </p:blipFill>
        <p:spPr>
          <a:xfrm>
            <a:off x="5410080" y="3352680"/>
            <a:ext cx="2718000" cy="12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3"/>
          <a:stretch/>
        </p:blipFill>
        <p:spPr>
          <a:xfrm>
            <a:off x="5410080" y="4876920"/>
            <a:ext cx="2689200" cy="99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covery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student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eaching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M 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ve At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 overvi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expla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 pa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2036880" y="6248520"/>
            <a:ext cx="48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www.ket.org/encyclomedia.htm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5" name="Picture 8" descr="Screen shot 2011-05-02 at 10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2666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Screen shot 2011-05-02 at 10"/>
          <p:cNvPicPr/>
          <p:nvPr/>
        </p:nvPicPr>
        <p:blipFill>
          <a:blip r:embed="rId2"/>
          <a:stretch/>
        </p:blipFill>
        <p:spPr>
          <a:xfrm>
            <a:off x="3124080" y="4835520"/>
            <a:ext cx="5626080" cy="126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12-03-07T16:12:17Z</dcterms:modified>
  <cp:revision>479</cp:revision>
  <dc:subject/>
  <dc:title>Slide 1</dc:title>
</cp:coreProperties>
</file>